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503-92D1-4795-A40B-D5B3C1F0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A81-CA59-44D0-9DF3-AA7508B7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6A6-3924-4549-892F-ECE3117E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A2E-3C07-4DC8-AEDF-3C0E6D98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DCE-1DD4-44A8-B9E2-41446789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7D4-60AA-420A-BB75-277EBA5B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24A-1869-4A64-BA13-C57305B8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823-CA73-4C79-AFBB-D2AC60F5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E75-C9B3-4B5E-9A12-FF71E2B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2A2-BFD4-4360-BA41-407233D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8CB-BE10-411A-B809-A204B086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9FF-8C6E-4CD8-BD5A-292E71BB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F2B0-48C4-4F65-B272-F0A4F4267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6 K tebe, Pane, na výs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, Pane, na výs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hľad viery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bo ty ma v každej stra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tešíš, keď zomdlieva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ou svojou usmer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priek zloby nástra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spásy vedieš k cieľ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v teba dúfaj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čo v boji nádej smel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vojho Slova čerp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ich pred zlom ochráni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, keď k tebe vol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oc by sa aj zem chve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sa rúcal odvek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a svojho spásy die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zdáš, Pane, navek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zraela ty si strá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 mocný, preveľk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, Pane, obstáť v boj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íťazstva sláv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tvoja o nás stoj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e strážcu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čo sľúbiš, splníš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ľa slova daného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27:19Z</dcterms:modified>
  <cp:revision>20</cp:revision>
  <dc:subject/>
  <dc:title>Je veľký náš Pán, on slávy je Kráľ Nech do všetkých strán  spev vrúcnych znie chvál.</dc:title>
</cp:coreProperties>
</file>